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DF4-84D1-4315-A6A3-8F1ADD15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CB6-B25E-44AE-AD01-EC11B450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74D-F47B-47B9-A49E-D87C0B3E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4E7-1ECA-47CE-A1C2-52E71C3E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BCA-1E38-414D-A3D5-08CEE67D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EA6-C8D3-4FE6-AA3C-62568EE0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9F1-D7EB-47BB-BECB-7650E2F5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F19-70A1-485F-86C4-662029F4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335-9FB6-4088-BE05-CBAA347E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AFF-5E2C-419A-9230-04D24B3B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D4B-36A5-4AB1-B012-1A14CAFF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3C7-4A42-428E-B11E-ACF593C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4679-1BAB-4232-BA5E-CAEEA4158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6934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6934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69343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2560" y="53352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 princip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0320" y="1828800"/>
            <a:ext cx="20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secondaire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5280" y="3657600"/>
            <a:ext cx="17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d’es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LYSE FONCTIONNELLE – R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52880"/>
            <a:ext cx="6934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in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67280"/>
            <a:ext cx="69343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ex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33520"/>
            <a:ext cx="28958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18288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3657600"/>
            <a:ext cx="28958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952880"/>
            <a:ext cx="2895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5867280"/>
            <a:ext cx="2895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5440" y="53352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5440" y="18288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85440" y="49528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85440" y="36576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5440" y="58672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2:50Z</dcterms:modified>
  <cp:revision>71</cp:revision>
  <dc:subject/>
  <dc:title>Contrôle interne des risques</dc:title>
</cp:coreProperties>
</file>